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0FA-2615-49CB-9AA3-0CC0DCDE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DC4-FDC7-4472-AA3A-3562BA1D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F05-C3C5-45F2-B382-2CCC1DCC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EE4-94FA-490F-947B-826F4534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98B-6CC4-475B-A0BD-C175019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BC6-74FE-4517-91B5-49AFF538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FE9-1633-4CEC-BBE1-0879AC6F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F6D-DE77-46AF-B323-7AE46F0B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3D3-73DC-4700-8046-5AB60A06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AAF-C0C8-4D7D-8200-66564336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DCF-7192-42B5-9A36-86E38B3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B3D-3C20-4CE0-8D8F-E15CD0A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EE5D-15A1-43C4-A1BA-1668B7D7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9.xml"/><Relationship Id="rId4" Type="http://schemas.openxmlformats.org/officeDocument/2006/relationships/slide" Target="slide35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slide" Target="slide37.xml"/><Relationship Id="rId9" Type="http://schemas.openxmlformats.org/officeDocument/2006/relationships/slide" Target="slide7.xml"/><Relationship Id="rId10" Type="http://schemas.openxmlformats.org/officeDocument/2006/relationships/slide" Target="slide15.xml"/><Relationship Id="rId11" Type="http://schemas.openxmlformats.org/officeDocument/2006/relationships/slide" Target="slide23.xml"/><Relationship Id="rId12" Type="http://schemas.openxmlformats.org/officeDocument/2006/relationships/slide" Target="slide39.xml"/><Relationship Id="rId13" Type="http://schemas.openxmlformats.org/officeDocument/2006/relationships/slide" Target="slide9.xml"/><Relationship Id="rId14" Type="http://schemas.openxmlformats.org/officeDocument/2006/relationships/slide" Target="slide17.xml"/><Relationship Id="rId15" Type="http://schemas.openxmlformats.org/officeDocument/2006/relationships/slide" Target="slide25.xml"/><Relationship Id="rId16" Type="http://schemas.openxmlformats.org/officeDocument/2006/relationships/slide" Target="slide41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an you remember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Charles Baker Harr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ire burns down this character’s hou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Miss Maudi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r. Nathan Radley gives this excuse for filling in the knotho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the tree was dy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em must read to Mrs. Dubose because he did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ruined her flowers with Scout’s bato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en Atticus shoots a mad dog, we discover his nickname is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One Shot Finc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person is found guilty of rap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380880"/>
          <a:ext cx="8610120" cy="6019560"/>
        </p:xfrm>
        <a:graphic>
          <a:graphicData uri="http://schemas.openxmlformats.org/drawingml/2006/table">
            <a:tbl>
              <a:tblPr/>
              <a:tblGrid>
                <a:gridCol w="1722240"/>
                <a:gridCol w="1722600"/>
                <a:gridCol w="1720440"/>
                <a:gridCol w="1722600"/>
                <a:gridCol w="1722240"/>
              </a:tblGrid>
              <a:tr h="12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Tom Robinso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Atticus’ cross examination of Bob Ewell, he points out what characteristic of Bob that is important regarding Mayella’s bruis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he is left hand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are 3 things Mayella says happened the day of the rap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y were out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was busting a chiffaro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e went to get him a nick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jumped on 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aped 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ang her around her ne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person stands up during the trial to tell everyone what a great worker Tom Robinson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Link Dea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se kept everything separate but not equal, and they also allowed segreg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Jim Crow Law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Kill a Mockingbird can be seen as similar to this historical event that took place on a trai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character is the narrat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the Scottsboro Boys incide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em and Scout go to church with Calpurnia and discover her “having command of two different languages.” What is the correct terminology for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dialec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se caused mass lynchings and were mostly initiated by whit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are race riot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rs. Dubose was addicted to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morphi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man walks around acting like he’s drunk and has mixed childr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Mr. Raymon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family refuses to take anything from anyone unless they know they can pay them bac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Scou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are the Cunningham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DOUBLE OR NOTH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man was 1/8 black and arrested for sitting in a designated white are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Homer A. Pless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person attacked Jem and Scout on their way home from the Halloween part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Bob Ewel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is Maycomb’s sherif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Heck 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is Dill’s real na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13:23Z</dcterms:created>
  <dc:creator>teacher</dc:creator>
  <dc:description/>
  <dc:language>en-US</dc:language>
  <cp:lastModifiedBy>teacher</cp:lastModifiedBy>
  <dcterms:modified xsi:type="dcterms:W3CDTF">2012-12-13T16:02:40Z</dcterms:modified>
  <cp:revision>18</cp:revision>
  <dc:subject/>
  <dc:title>To Kill a Mockingbird</dc:title>
</cp:coreProperties>
</file>